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E7E-0024-48CD-8980-5862B3A7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ABC-A14B-45BA-8BB8-30051CC5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FF2-7BA8-4C20-A317-5C54177C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DE5-4AAD-4EB0-86FF-5E51B971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9A5-8E78-4F61-8978-5C303F1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84A-0B7D-4A95-A40D-FD35DE02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72C-E8E5-4597-A3EA-6AA4E4D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FE0-0903-4EAE-8027-E4C8DBE4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1B6-4908-44C8-9804-95835408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C44-603A-4F08-B477-5D2A5A7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5FC-A8C3-4E63-B865-E60F6BA2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6AD-B8C9-487D-AEF1-DAF418E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929A2-3A52-45CB-BD09-9E2B9637F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33520" y="1636560"/>
            <a:ext cx="7277040" cy="2522520"/>
          </a:xfrm>
          <a:prstGeom prst="rect">
            <a:avLst/>
          </a:prstGeom>
          <a:noFill/>
          <a:ln w="9360">
            <a:solidFill>
              <a:srgbClr val="8faa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72c4"/>
                </a:solidFill>
                <a:latin typeface="Calibri"/>
              </a:rPr>
              <a:t>Анализ состояния и причин производственного травматизма за 2024 год, принятые меры по результатам расследований несчастных случ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10"/>
          <p:cNvGrpSpPr/>
          <p:nvPr/>
        </p:nvGrpSpPr>
        <p:grpSpPr>
          <a:xfrm>
            <a:off x="8126280" y="0"/>
            <a:ext cx="4089600" cy="6858000"/>
            <a:chOff x="8126280" y="0"/>
            <a:chExt cx="4089600" cy="6858000"/>
          </a:xfrm>
        </p:grpSpPr>
        <p:pic>
          <p:nvPicPr>
            <p:cNvPr id="44" name="Rectangle 10" descr=""/>
            <p:cNvPicPr/>
            <p:nvPr/>
          </p:nvPicPr>
          <p:blipFill>
            <a:blip r:embed="rId1"/>
            <a:stretch/>
          </p:blipFill>
          <p:spPr>
            <a:xfrm>
              <a:off x="8128800" y="0"/>
              <a:ext cx="4086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10800000">
              <a:off x="8126280" y="0"/>
              <a:ext cx="4089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Rectangle 12"/>
          <p:cNvGrpSpPr/>
          <p:nvPr/>
        </p:nvGrpSpPr>
        <p:grpSpPr>
          <a:xfrm>
            <a:off x="8126280" y="0"/>
            <a:ext cx="4089600" cy="6400800"/>
            <a:chOff x="8126280" y="0"/>
            <a:chExt cx="4089600" cy="6400800"/>
          </a:xfrm>
        </p:grpSpPr>
        <p:pic>
          <p:nvPicPr>
            <p:cNvPr id="47" name="Rectangle 12" descr=""/>
            <p:cNvPicPr/>
            <p:nvPr/>
          </p:nvPicPr>
          <p:blipFill>
            <a:blip r:embed="rId2"/>
            <a:stretch/>
          </p:blipFill>
          <p:spPr>
            <a:xfrm>
              <a:off x="8128800" y="0"/>
              <a:ext cx="408672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10800000">
              <a:off x="8126280" y="0"/>
              <a:ext cx="4089600" cy="64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Rectangle 14"/>
          <p:cNvSpPr/>
          <p:nvPr/>
        </p:nvSpPr>
        <p:spPr>
          <a:xfrm flipH="1" rot="10800000">
            <a:off x="8123400" y="0"/>
            <a:ext cx="4068720" cy="6400800"/>
          </a:xfrm>
          <a:prstGeom prst="rect">
            <a:avLst/>
          </a:prstGeom>
          <a:gradFill rotWithShape="0">
            <a:gsLst>
              <a:gs pos="0">
                <a:srgbClr val="4472c4">
                  <a:alpha val="21176"/>
                </a:srgbClr>
              </a:gs>
              <a:gs pos="100000">
                <a:srgbClr val="000000">
                  <a:alpha val="0"/>
                </a:srgbClr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6"/>
          <p:cNvSpPr/>
          <p:nvPr/>
        </p:nvSpPr>
        <p:spPr>
          <a:xfrm flipH="1" rot="10800000">
            <a:off x="8123400" y="0"/>
            <a:ext cx="3611520" cy="6858000"/>
          </a:xfrm>
          <a:prstGeom prst="rect">
            <a:avLst/>
          </a:prstGeom>
          <a:gradFill rotWithShape="0">
            <a:gsLst>
              <a:gs pos="0">
                <a:srgbClr val="4472c4">
                  <a:alpha val="2901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"/>
          <p:cNvPicPr/>
          <p:nvPr/>
        </p:nvPicPr>
        <p:blipFill>
          <a:blip r:embed="rId3"/>
          <a:stretch/>
        </p:blipFill>
        <p:spPr>
          <a:xfrm>
            <a:off x="8926560" y="1452600"/>
            <a:ext cx="2462040" cy="2465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514520" y="4533840"/>
            <a:ext cx="5883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отоева Людмила Викторовна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ститель руководителя Государственной инспекции труда в Забайкальском кра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Прямоугольник 7"/>
          <p:cNvGrpSpPr/>
          <p:nvPr/>
        </p:nvGrpSpPr>
        <p:grpSpPr>
          <a:xfrm>
            <a:off x="530280" y="152280"/>
            <a:ext cx="7162560" cy="731880"/>
            <a:chOff x="530280" y="152280"/>
            <a:chExt cx="7162560" cy="731880"/>
          </a:xfrm>
        </p:grpSpPr>
        <p:pic>
          <p:nvPicPr>
            <p:cNvPr id="54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530280" y="152280"/>
              <a:ext cx="7160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160" y="152280"/>
              <a:ext cx="7159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Государственная инспекция труда в Забайкальском кра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1122480" y="2054160"/>
            <a:ext cx="15969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59" name="Прямоугольник 8"/>
          <p:cNvGrpSpPr/>
          <p:nvPr/>
        </p:nvGrpSpPr>
        <p:grpSpPr>
          <a:xfrm>
            <a:off x="2212920" y="974880"/>
            <a:ext cx="7974000" cy="834840"/>
            <a:chOff x="2212920" y="974880"/>
            <a:chExt cx="7974000" cy="834840"/>
          </a:xfrm>
        </p:grpSpPr>
        <p:pic>
          <p:nvPicPr>
            <p:cNvPr id="6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212920" y="974880"/>
              <a:ext cx="79740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328840" y="1128600"/>
              <a:ext cx="76611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d90ff"/>
                  </a:solidFill>
                  <a:latin typeface="Arial"/>
                  <a:ea typeface="Arial"/>
                </a:rPr>
                <a:t>Несчастные случаи на производстве 2024 го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9"/>
          <p:cNvSpPr/>
          <p:nvPr/>
        </p:nvSpPr>
        <p:spPr>
          <a:xfrm>
            <a:off x="1030320" y="2241720"/>
            <a:ext cx="168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Nova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 Nova"/>
              </a:rPr>
              <a:t>случае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Шестиугольник 10"/>
          <p:cNvGrpSpPr/>
          <p:nvPr/>
        </p:nvGrpSpPr>
        <p:grpSpPr>
          <a:xfrm>
            <a:off x="2084400" y="3621240"/>
            <a:ext cx="1622520" cy="1427040"/>
            <a:chOff x="2084400" y="3621240"/>
            <a:chExt cx="1622520" cy="1427040"/>
          </a:xfrm>
        </p:grpSpPr>
        <p:pic>
          <p:nvPicPr>
            <p:cNvPr id="64" name="Шестиугольник 10" descr=""/>
            <p:cNvPicPr/>
            <p:nvPr/>
          </p:nvPicPr>
          <p:blipFill>
            <a:blip r:embed="rId3"/>
            <a:stretch/>
          </p:blipFill>
          <p:spPr>
            <a:xfrm>
              <a:off x="2084400" y="3621240"/>
              <a:ext cx="16225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374920" y="3878280"/>
              <a:ext cx="10447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Шестиугольник 11"/>
          <p:cNvGrpSpPr/>
          <p:nvPr/>
        </p:nvGrpSpPr>
        <p:grpSpPr>
          <a:xfrm>
            <a:off x="219240" y="3638520"/>
            <a:ext cx="1628640" cy="1427040"/>
            <a:chOff x="219240" y="3638520"/>
            <a:chExt cx="1628640" cy="1427040"/>
          </a:xfrm>
        </p:grpSpPr>
        <p:pic>
          <p:nvPicPr>
            <p:cNvPr id="67" name="Шестиугольник 11" descr=""/>
            <p:cNvPicPr/>
            <p:nvPr/>
          </p:nvPicPr>
          <p:blipFill>
            <a:blip r:embed="rId4"/>
            <a:stretch/>
          </p:blipFill>
          <p:spPr>
            <a:xfrm>
              <a:off x="219240" y="3638520"/>
              <a:ext cx="162864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9760" y="3895560"/>
              <a:ext cx="104436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Шестиугольник 12"/>
          <p:cNvGrpSpPr/>
          <p:nvPr/>
        </p:nvGrpSpPr>
        <p:grpSpPr>
          <a:xfrm>
            <a:off x="2968560" y="2017800"/>
            <a:ext cx="1627200" cy="1420560"/>
            <a:chOff x="2968560" y="2017800"/>
            <a:chExt cx="1627200" cy="1420560"/>
          </a:xfrm>
        </p:grpSpPr>
        <p:pic>
          <p:nvPicPr>
            <p:cNvPr id="70" name="Шестиугольник 12" descr=""/>
            <p:cNvPicPr/>
            <p:nvPr/>
          </p:nvPicPr>
          <p:blipFill>
            <a:blip r:embed="rId5"/>
            <a:stretch/>
          </p:blipFill>
          <p:spPr>
            <a:xfrm>
              <a:off x="2968560" y="2017800"/>
              <a:ext cx="162720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59080" y="2271600"/>
              <a:ext cx="10447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13"/>
          <p:cNvSpPr/>
          <p:nvPr/>
        </p:nvSpPr>
        <p:spPr>
          <a:xfrm>
            <a:off x="2946240" y="2144880"/>
            <a:ext cx="168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ova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ova"/>
              </a:rPr>
              <a:t>смертельн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065320" y="3855960"/>
            <a:ext cx="168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Nova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 Nova"/>
              </a:rPr>
              <a:t>тяжел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87200" y="3800520"/>
            <a:ext cx="168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Nov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 Nova"/>
              </a:rPr>
              <a:t>группов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6" descr=""/>
          <p:cNvPicPr/>
          <p:nvPr/>
        </p:nvPicPr>
        <p:blipFill>
          <a:blip r:embed="rId6"/>
          <a:stretch/>
        </p:blipFill>
        <p:spPr>
          <a:xfrm>
            <a:off x="6699240" y="2077920"/>
            <a:ext cx="1596960" cy="1397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6566040" y="2122560"/>
            <a:ext cx="16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Nova"/>
              </a:rPr>
              <a:t>9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 Nova"/>
              </a:rPr>
              <a:t>пострадав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Шестиугольник 18"/>
          <p:cNvGrpSpPr/>
          <p:nvPr/>
        </p:nvGrpSpPr>
        <p:grpSpPr>
          <a:xfrm>
            <a:off x="8521560" y="2036880"/>
            <a:ext cx="1629000" cy="1425600"/>
            <a:chOff x="8521560" y="2036880"/>
            <a:chExt cx="1629000" cy="1425600"/>
          </a:xfrm>
        </p:grpSpPr>
        <p:pic>
          <p:nvPicPr>
            <p:cNvPr id="78" name="Шестиугольник 18" descr=""/>
            <p:cNvPicPr/>
            <p:nvPr/>
          </p:nvPicPr>
          <p:blipFill>
            <a:blip r:embed="rId7"/>
            <a:stretch/>
          </p:blipFill>
          <p:spPr>
            <a:xfrm>
              <a:off x="8521560" y="2036880"/>
              <a:ext cx="1629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815320" y="2292480"/>
              <a:ext cx="1044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Шестиугольник 19"/>
          <p:cNvGrpSpPr/>
          <p:nvPr/>
        </p:nvGrpSpPr>
        <p:grpSpPr>
          <a:xfrm>
            <a:off x="7680240" y="3693960"/>
            <a:ext cx="1629000" cy="1427400"/>
            <a:chOff x="7680240" y="3693960"/>
            <a:chExt cx="1629000" cy="1427400"/>
          </a:xfrm>
        </p:grpSpPr>
        <p:pic>
          <p:nvPicPr>
            <p:cNvPr id="81" name="Шестиугольник 19" descr=""/>
            <p:cNvPicPr/>
            <p:nvPr/>
          </p:nvPicPr>
          <p:blipFill>
            <a:blip r:embed="rId8"/>
            <a:stretch/>
          </p:blipFill>
          <p:spPr>
            <a:xfrm>
              <a:off x="7680240" y="3693960"/>
              <a:ext cx="1629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972560" y="3951360"/>
              <a:ext cx="10443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Шестиугольник 20"/>
          <p:cNvGrpSpPr/>
          <p:nvPr/>
        </p:nvGrpSpPr>
        <p:grpSpPr>
          <a:xfrm>
            <a:off x="5724360" y="3718080"/>
            <a:ext cx="1627200" cy="1420560"/>
            <a:chOff x="5724360" y="3718080"/>
            <a:chExt cx="1627200" cy="1420560"/>
          </a:xfrm>
        </p:grpSpPr>
        <p:pic>
          <p:nvPicPr>
            <p:cNvPr id="84" name="Шестиугольник 20" descr=""/>
            <p:cNvPicPr/>
            <p:nvPr/>
          </p:nvPicPr>
          <p:blipFill>
            <a:blip r:embed="rId9"/>
            <a:stretch/>
          </p:blipFill>
          <p:spPr>
            <a:xfrm>
              <a:off x="5724360" y="3718080"/>
              <a:ext cx="162720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14880" y="3975120"/>
              <a:ext cx="10447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21"/>
          <p:cNvSpPr/>
          <p:nvPr/>
        </p:nvSpPr>
        <p:spPr>
          <a:xfrm>
            <a:off x="8520120" y="2176560"/>
            <a:ext cx="168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ov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ova"/>
              </a:rPr>
              <a:t>погибши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7643880" y="3710160"/>
            <a:ext cx="168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ova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ova"/>
              </a:rPr>
              <a:t>с тяжел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ova"/>
              </a:rPr>
              <a:t>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5697360" y="3746520"/>
            <a:ext cx="168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ova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ova"/>
              </a:rPr>
              <a:t>с лёг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ova"/>
              </a:rPr>
              <a:t>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25"/>
          <p:cNvSpPr/>
          <p:nvPr/>
        </p:nvSpPr>
        <p:spPr>
          <a:xfrm flipV="1">
            <a:off x="8285040" y="2744280"/>
            <a:ext cx="235080" cy="3348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26"/>
          <p:cNvSpPr/>
          <p:nvPr/>
        </p:nvSpPr>
        <p:spPr>
          <a:xfrm>
            <a:off x="7900920" y="3456000"/>
            <a:ext cx="212760" cy="2570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 flipH="1">
            <a:off x="6946560" y="3471840"/>
            <a:ext cx="152280" cy="25236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34"/>
          <p:cNvSpPr/>
          <p:nvPr/>
        </p:nvSpPr>
        <p:spPr>
          <a:xfrm>
            <a:off x="2689200" y="2744640"/>
            <a:ext cx="2937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36"/>
          <p:cNvSpPr/>
          <p:nvPr/>
        </p:nvSpPr>
        <p:spPr>
          <a:xfrm>
            <a:off x="2327400" y="3398760"/>
            <a:ext cx="212760" cy="25740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37"/>
          <p:cNvSpPr/>
          <p:nvPr/>
        </p:nvSpPr>
        <p:spPr>
          <a:xfrm flipH="1">
            <a:off x="1376280" y="3435480"/>
            <a:ext cx="154080" cy="25380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Прямоугольник 8"/>
          <p:cNvGrpSpPr/>
          <p:nvPr/>
        </p:nvGrpSpPr>
        <p:grpSpPr>
          <a:xfrm>
            <a:off x="2236680" y="957240"/>
            <a:ext cx="7974000" cy="878040"/>
            <a:chOff x="2236680" y="957240"/>
            <a:chExt cx="7974000" cy="878040"/>
          </a:xfrm>
        </p:grpSpPr>
        <p:pic>
          <p:nvPicPr>
            <p:cNvPr id="98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2236680" y="957240"/>
              <a:ext cx="7974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355840" y="1109520"/>
              <a:ext cx="76611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d90ff"/>
                  </a:solidFill>
                  <a:latin typeface="Arial"/>
                  <a:ea typeface="Arial"/>
                </a:rPr>
                <a:t>Сравнительный анализ несчастных случаев на производстве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d90ff"/>
                  </a:solidFill>
                  <a:latin typeface="Arial"/>
                  <a:ea typeface="Arial"/>
                </a:rPr>
                <a:t>за 2023 и 2024 год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0" name="Диаграмма 38"/>
          <p:cNvGraphicFramePr/>
          <p:nvPr/>
        </p:nvGraphicFramePr>
        <p:xfrm>
          <a:off x="74520" y="2016000"/>
          <a:ext cx="9715680" cy="473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Диаграмма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2016000"/>
                    <a:ext cx="971568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Скругленный прямоугольник 2"/>
          <p:cNvSpPr/>
          <p:nvPr/>
        </p:nvSpPr>
        <p:spPr>
          <a:xfrm>
            <a:off x="8445600" y="2895480"/>
            <a:ext cx="2921040" cy="181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т общего производственного травматизма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5,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1278000" y="920880"/>
            <a:ext cx="95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Количество несчастных случаев в наиболее травмоопасных отрасл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1030320" y="2004840"/>
            <a:ext cx="3343320" cy="606600"/>
          </a:xfrm>
          <a:prstGeom prst="rect">
            <a:avLst/>
          </a:prstGeom>
          <a:solidFill>
            <a:srgbClr val="fbe5d6"/>
          </a:soli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Arial"/>
                <a:ea typeface="Arial"/>
              </a:rPr>
              <a:t>Добыча полезных ископаем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1738440" y="1450800"/>
            <a:ext cx="1888920" cy="38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86b85"/>
                </a:solidFill>
                <a:latin typeface="Arial"/>
                <a:ea typeface="Arial"/>
              </a:rPr>
              <a:t>2023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7404120" y="1460520"/>
            <a:ext cx="1889280" cy="38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86b85"/>
                </a:solidFill>
                <a:latin typeface="Arial"/>
                <a:ea typeface="Arial"/>
              </a:rPr>
              <a:t>2024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6516720" y="2038320"/>
            <a:ext cx="3649680" cy="538200"/>
          </a:xfrm>
          <a:prstGeom prst="rect">
            <a:avLst/>
          </a:prstGeom>
          <a:solidFill>
            <a:srgbClr val="fbe5d6"/>
          </a:soli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Arial"/>
              </a:rPr>
              <a:t>14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Arial"/>
                <a:ea typeface="Arial"/>
              </a:rPr>
              <a:t>Строитель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6505560" y="2689200"/>
            <a:ext cx="1057320" cy="63648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группов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18"/>
          <p:cNvSpPr/>
          <p:nvPr/>
        </p:nvSpPr>
        <p:spPr>
          <a:xfrm>
            <a:off x="7672320" y="2689200"/>
            <a:ext cx="1155600" cy="63648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яжел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19"/>
          <p:cNvSpPr/>
          <p:nvPr/>
        </p:nvSpPr>
        <p:spPr>
          <a:xfrm>
            <a:off x="8937720" y="2689200"/>
            <a:ext cx="1228680" cy="63648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кругленный прямоугольник 20"/>
          <p:cNvSpPr/>
          <p:nvPr/>
        </p:nvSpPr>
        <p:spPr>
          <a:xfrm>
            <a:off x="1228680" y="2689200"/>
            <a:ext cx="1155600" cy="63648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яжел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21"/>
          <p:cNvSpPr/>
          <p:nvPr/>
        </p:nvSpPr>
        <p:spPr>
          <a:xfrm>
            <a:off x="2795760" y="2689200"/>
            <a:ext cx="1228680" cy="63648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Прямоугольник 22"/>
          <p:cNvGrpSpPr/>
          <p:nvPr/>
        </p:nvGrpSpPr>
        <p:grpSpPr>
          <a:xfrm>
            <a:off x="6497640" y="3376440"/>
            <a:ext cx="3865680" cy="854280"/>
            <a:chOff x="6497640" y="3376440"/>
            <a:chExt cx="3865680" cy="854280"/>
          </a:xfrm>
        </p:grpSpPr>
        <p:pic>
          <p:nvPicPr>
            <p:cNvPr id="116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6497640" y="3376440"/>
              <a:ext cx="3865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611760" y="3530520"/>
              <a:ext cx="35546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53735"/>
                  </a:solidFill>
                  <a:latin typeface="Arial"/>
                  <a:ea typeface="Arial"/>
                </a:rPr>
                <a:t>6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быча полезных ископаемы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Прямоугольник 23"/>
          <p:cNvGrpSpPr/>
          <p:nvPr/>
        </p:nvGrpSpPr>
        <p:grpSpPr>
          <a:xfrm>
            <a:off x="822240" y="3408480"/>
            <a:ext cx="3841920" cy="828720"/>
            <a:chOff x="822240" y="3408480"/>
            <a:chExt cx="3841920" cy="828720"/>
          </a:xfrm>
        </p:grpSpPr>
        <p:pic>
          <p:nvPicPr>
            <p:cNvPr id="119" name="Прямоугольник 23" descr=""/>
            <p:cNvPicPr/>
            <p:nvPr/>
          </p:nvPicPr>
          <p:blipFill>
            <a:blip r:embed="rId2"/>
            <a:stretch/>
          </p:blipFill>
          <p:spPr>
            <a:xfrm>
              <a:off x="822240" y="3408480"/>
              <a:ext cx="3841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36720" y="3557520"/>
              <a:ext cx="3531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53735"/>
                  </a:solidFill>
                  <a:latin typeface="Arial"/>
                  <a:ea typeface="Arial"/>
                </a:rPr>
                <a:t>7</a:t>
              </a:r>
              <a:r>
                <a:rPr b="1" lang="ru-RU" sz="1600" spc="-1" strike="noStrike">
                  <a:solidFill>
                    <a:srgbClr val="953735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роительств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Скругленный прямоугольник 24"/>
          <p:cNvSpPr/>
          <p:nvPr/>
        </p:nvSpPr>
        <p:spPr>
          <a:xfrm>
            <a:off x="1228680" y="4165560"/>
            <a:ext cx="115560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яжел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25"/>
          <p:cNvSpPr/>
          <p:nvPr/>
        </p:nvSpPr>
        <p:spPr>
          <a:xfrm>
            <a:off x="2795760" y="4165560"/>
            <a:ext cx="122868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Прямоугольник 26"/>
          <p:cNvGrpSpPr/>
          <p:nvPr/>
        </p:nvGrpSpPr>
        <p:grpSpPr>
          <a:xfrm>
            <a:off x="725400" y="4876920"/>
            <a:ext cx="3846600" cy="907920"/>
            <a:chOff x="725400" y="4876920"/>
            <a:chExt cx="3846600" cy="907920"/>
          </a:xfrm>
        </p:grpSpPr>
        <p:pic>
          <p:nvPicPr>
            <p:cNvPr id="124" name="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725400" y="4876920"/>
              <a:ext cx="3846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43120" y="5027760"/>
              <a:ext cx="35305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53735"/>
                  </a:solidFill>
                  <a:latin typeface="Arial"/>
                  <a:ea typeface="Arial"/>
                </a:rPr>
                <a:t>5</a:t>
              </a:r>
              <a:r>
                <a:rPr b="1" lang="ru-RU" sz="1600" spc="-1" strike="noStrike">
                  <a:solidFill>
                    <a:srgbClr val="953735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Обрабатывающие производ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Скругленный прямоугольник 27"/>
          <p:cNvSpPr/>
          <p:nvPr/>
        </p:nvSpPr>
        <p:spPr>
          <a:xfrm>
            <a:off x="1228680" y="5726160"/>
            <a:ext cx="115560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яжел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28"/>
          <p:cNvSpPr/>
          <p:nvPr/>
        </p:nvSpPr>
        <p:spPr>
          <a:xfrm>
            <a:off x="2682720" y="5726160"/>
            <a:ext cx="12290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Прямоугольник 29"/>
          <p:cNvGrpSpPr/>
          <p:nvPr/>
        </p:nvGrpSpPr>
        <p:grpSpPr>
          <a:xfrm>
            <a:off x="6461280" y="4870440"/>
            <a:ext cx="3902040" cy="878040"/>
            <a:chOff x="6461280" y="4870440"/>
            <a:chExt cx="3902040" cy="878040"/>
          </a:xfrm>
        </p:grpSpPr>
        <p:pic>
          <p:nvPicPr>
            <p:cNvPr id="129" name="Прямоугольник 29" descr=""/>
            <p:cNvPicPr/>
            <p:nvPr/>
          </p:nvPicPr>
          <p:blipFill>
            <a:blip r:embed="rId4"/>
            <a:stretch/>
          </p:blipFill>
          <p:spPr>
            <a:xfrm>
              <a:off x="6461280" y="4870440"/>
              <a:ext cx="3902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78640" y="5024520"/>
              <a:ext cx="3587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53735"/>
                  </a:solidFill>
                  <a:latin typeface="Arial"/>
                  <a:ea typeface="Arial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Транспор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Скругленный прямоугольник 30"/>
          <p:cNvSpPr/>
          <p:nvPr/>
        </p:nvSpPr>
        <p:spPr>
          <a:xfrm>
            <a:off x="6541920" y="5699160"/>
            <a:ext cx="105732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группов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31"/>
          <p:cNvSpPr/>
          <p:nvPr/>
        </p:nvSpPr>
        <p:spPr>
          <a:xfrm>
            <a:off x="7697880" y="5699160"/>
            <a:ext cx="11570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яжел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32"/>
          <p:cNvSpPr/>
          <p:nvPr/>
        </p:nvSpPr>
        <p:spPr>
          <a:xfrm>
            <a:off x="8951760" y="5699160"/>
            <a:ext cx="122904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33"/>
          <p:cNvSpPr/>
          <p:nvPr/>
        </p:nvSpPr>
        <p:spPr>
          <a:xfrm>
            <a:off x="7737480" y="4192560"/>
            <a:ext cx="115560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яжел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кругленный прямоугольник 34"/>
          <p:cNvSpPr/>
          <p:nvPr/>
        </p:nvSpPr>
        <p:spPr>
          <a:xfrm>
            <a:off x="8996400" y="4192560"/>
            <a:ext cx="122868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мертельны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35"/>
          <p:cNvSpPr/>
          <p:nvPr/>
        </p:nvSpPr>
        <p:spPr>
          <a:xfrm>
            <a:off x="6591240" y="4192560"/>
            <a:ext cx="1057320" cy="6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группов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1917720" y="1017720"/>
            <a:ext cx="805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Доля от всех происшедших несчастных случаев в 2024 году с </a:t>
            </a:r>
            <a:r>
              <a:rPr b="1" lang="ru-RU" sz="2000" spc="-1" strike="noStrike">
                <a:solidFill>
                  <a:srgbClr val="ff0000"/>
                </a:solidFill>
                <a:latin typeface="Arial Nova"/>
                <a:ea typeface="Times New Roman"/>
              </a:rPr>
              <a:t>тяжелыми последствиями </a:t>
            </a: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в зависимости от вида (типа) происшест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4" descr=""/>
          <p:cNvPicPr/>
          <p:nvPr/>
        </p:nvPicPr>
        <p:blipFill>
          <a:blip r:embed="rId1"/>
          <a:stretch/>
        </p:blipFill>
        <p:spPr>
          <a:xfrm>
            <a:off x="1444680" y="2401920"/>
            <a:ext cx="1590480" cy="1395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5" descr=""/>
          <p:cNvPicPr/>
          <p:nvPr/>
        </p:nvPicPr>
        <p:blipFill>
          <a:blip r:embed="rId2"/>
          <a:stretch/>
        </p:blipFill>
        <p:spPr>
          <a:xfrm>
            <a:off x="1444680" y="4621320"/>
            <a:ext cx="1590480" cy="13953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6" descr=""/>
          <p:cNvPicPr/>
          <p:nvPr/>
        </p:nvPicPr>
        <p:blipFill>
          <a:blip r:embed="rId3"/>
          <a:stretch/>
        </p:blipFill>
        <p:spPr>
          <a:xfrm>
            <a:off x="6761160" y="2401920"/>
            <a:ext cx="1596960" cy="1395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7" descr=""/>
          <p:cNvPicPr/>
          <p:nvPr/>
        </p:nvPicPr>
        <p:blipFill>
          <a:blip r:embed="rId4"/>
          <a:stretch/>
        </p:blipFill>
        <p:spPr>
          <a:xfrm>
            <a:off x="6834240" y="4552920"/>
            <a:ext cx="1590480" cy="13906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1380960" y="2744640"/>
            <a:ext cx="16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24,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Прямоугольник 39"/>
          <p:cNvGrpSpPr/>
          <p:nvPr/>
        </p:nvGrpSpPr>
        <p:grpSpPr>
          <a:xfrm>
            <a:off x="2919240" y="2712960"/>
            <a:ext cx="3054600" cy="785880"/>
            <a:chOff x="2919240" y="2712960"/>
            <a:chExt cx="3054600" cy="785880"/>
          </a:xfrm>
        </p:grpSpPr>
        <p:pic>
          <p:nvPicPr>
            <p:cNvPr id="146" name="Прямоугольник 39" descr=""/>
            <p:cNvPicPr/>
            <p:nvPr/>
          </p:nvPicPr>
          <p:blipFill>
            <a:blip r:embed="rId5"/>
            <a:stretch/>
          </p:blipFill>
          <p:spPr>
            <a:xfrm>
              <a:off x="2919240" y="2712960"/>
              <a:ext cx="3054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038400" y="2862360"/>
              <a:ext cx="2737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Падение пострадавшего с высо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Прямоугольник 40"/>
          <p:cNvGrpSpPr/>
          <p:nvPr/>
        </p:nvGrpSpPr>
        <p:grpSpPr>
          <a:xfrm>
            <a:off x="2975040" y="4950000"/>
            <a:ext cx="3047760" cy="785520"/>
            <a:chOff x="2975040" y="4950000"/>
            <a:chExt cx="3047760" cy="785520"/>
          </a:xfrm>
        </p:grpSpPr>
        <p:pic>
          <p:nvPicPr>
            <p:cNvPr id="149" name="Прямоугольник 40" descr=""/>
            <p:cNvPicPr/>
            <p:nvPr/>
          </p:nvPicPr>
          <p:blipFill>
            <a:blip r:embed="rId6"/>
            <a:stretch/>
          </p:blipFill>
          <p:spPr>
            <a:xfrm>
              <a:off x="2975040" y="4950000"/>
              <a:ext cx="30477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092400" y="5103720"/>
              <a:ext cx="2737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Транспортные происшеств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Box 9"/>
          <p:cNvSpPr/>
          <p:nvPr/>
        </p:nvSpPr>
        <p:spPr>
          <a:xfrm>
            <a:off x="1352520" y="4992840"/>
            <a:ext cx="16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669000" y="2792520"/>
            <a:ext cx="16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24,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6759720" y="4992840"/>
            <a:ext cx="16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8,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Прямоугольник 45"/>
          <p:cNvGrpSpPr/>
          <p:nvPr/>
        </p:nvGrpSpPr>
        <p:grpSpPr>
          <a:xfrm>
            <a:off x="8326440" y="2639880"/>
            <a:ext cx="3054240" cy="785880"/>
            <a:chOff x="8326440" y="2639880"/>
            <a:chExt cx="3054240" cy="785880"/>
          </a:xfrm>
        </p:grpSpPr>
        <p:pic>
          <p:nvPicPr>
            <p:cNvPr id="155" name="Прямоугольник 45" descr=""/>
            <p:cNvPicPr/>
            <p:nvPr/>
          </p:nvPicPr>
          <p:blipFill>
            <a:blip r:embed="rId7"/>
            <a:stretch/>
          </p:blipFill>
          <p:spPr>
            <a:xfrm>
              <a:off x="8326440" y="2639880"/>
              <a:ext cx="30542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445600" y="2792520"/>
              <a:ext cx="27381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Воздействие движущих предмет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Прямоугольник 46"/>
          <p:cNvGrpSpPr/>
          <p:nvPr/>
        </p:nvGrpSpPr>
        <p:grpSpPr>
          <a:xfrm>
            <a:off x="8381880" y="4883040"/>
            <a:ext cx="3048120" cy="785880"/>
            <a:chOff x="8381880" y="4883040"/>
            <a:chExt cx="3048120" cy="785880"/>
          </a:xfrm>
        </p:grpSpPr>
        <p:pic>
          <p:nvPicPr>
            <p:cNvPr id="158" name="Прямоугольник 46" descr=""/>
            <p:cNvPicPr/>
            <p:nvPr/>
          </p:nvPicPr>
          <p:blipFill>
            <a:blip r:embed="rId8"/>
            <a:stretch/>
          </p:blipFill>
          <p:spPr>
            <a:xfrm>
              <a:off x="8381880" y="4883040"/>
              <a:ext cx="30481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497800" y="5033880"/>
              <a:ext cx="27385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Падение, обрушение предмет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3"/>
          <p:cNvSpPr/>
          <p:nvPr/>
        </p:nvSpPr>
        <p:spPr>
          <a:xfrm>
            <a:off x="1917720" y="1017720"/>
            <a:ext cx="805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Доля происшедших несчастных случаев в 2024 году со </a:t>
            </a:r>
            <a:r>
              <a:rPr b="1" lang="ru-RU" sz="2000" spc="-1" strike="noStrike">
                <a:solidFill>
                  <a:srgbClr val="ff0000"/>
                </a:solidFill>
                <a:latin typeface="Arial Nova"/>
                <a:ea typeface="Times New Roman"/>
              </a:rPr>
              <a:t>смертельным исходом </a:t>
            </a: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в зависимости от общего числа смертельных случа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34" descr=""/>
          <p:cNvPicPr/>
          <p:nvPr/>
        </p:nvPicPr>
        <p:blipFill>
          <a:blip r:embed="rId1"/>
          <a:stretch/>
        </p:blipFill>
        <p:spPr>
          <a:xfrm>
            <a:off x="1444680" y="2401920"/>
            <a:ext cx="1590480" cy="13953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5" descr=""/>
          <p:cNvPicPr/>
          <p:nvPr/>
        </p:nvPicPr>
        <p:blipFill>
          <a:blip r:embed="rId2"/>
          <a:stretch/>
        </p:blipFill>
        <p:spPr>
          <a:xfrm>
            <a:off x="1444680" y="4621320"/>
            <a:ext cx="1590480" cy="1395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7" descr=""/>
          <p:cNvPicPr/>
          <p:nvPr/>
        </p:nvPicPr>
        <p:blipFill>
          <a:blip r:embed="rId3"/>
          <a:stretch/>
        </p:blipFill>
        <p:spPr>
          <a:xfrm>
            <a:off x="6761160" y="3449520"/>
            <a:ext cx="1596960" cy="1397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380960" y="2744640"/>
            <a:ext cx="16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18,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Прямоугольник 39"/>
          <p:cNvGrpSpPr/>
          <p:nvPr/>
        </p:nvGrpSpPr>
        <p:grpSpPr>
          <a:xfrm>
            <a:off x="2919240" y="2712960"/>
            <a:ext cx="3054600" cy="785880"/>
            <a:chOff x="2919240" y="2712960"/>
            <a:chExt cx="3054600" cy="785880"/>
          </a:xfrm>
        </p:grpSpPr>
        <p:pic>
          <p:nvPicPr>
            <p:cNvPr id="168" name="Прямоугольник 39" descr=""/>
            <p:cNvPicPr/>
            <p:nvPr/>
          </p:nvPicPr>
          <p:blipFill>
            <a:blip r:embed="rId4"/>
            <a:stretch/>
          </p:blipFill>
          <p:spPr>
            <a:xfrm>
              <a:off x="2919240" y="2712960"/>
              <a:ext cx="30546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038400" y="2862360"/>
              <a:ext cx="2737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Транспортные происшеств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Прямоугольник 40"/>
          <p:cNvGrpSpPr/>
          <p:nvPr/>
        </p:nvGrpSpPr>
        <p:grpSpPr>
          <a:xfrm>
            <a:off x="2975040" y="4950000"/>
            <a:ext cx="3047760" cy="785520"/>
            <a:chOff x="2975040" y="4950000"/>
            <a:chExt cx="3047760" cy="785520"/>
          </a:xfrm>
        </p:grpSpPr>
        <p:pic>
          <p:nvPicPr>
            <p:cNvPr id="171" name="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2975040" y="4950000"/>
              <a:ext cx="30477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092400" y="5103720"/>
              <a:ext cx="2737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Падение пострадавшего с высо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TextBox 9"/>
          <p:cNvSpPr/>
          <p:nvPr/>
        </p:nvSpPr>
        <p:spPr>
          <a:xfrm>
            <a:off x="1352520" y="4992840"/>
            <a:ext cx="16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27,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669000" y="3821040"/>
            <a:ext cx="16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Nova"/>
              </a:rPr>
              <a:t>27,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Прямоугольник 46"/>
          <p:cNvGrpSpPr/>
          <p:nvPr/>
        </p:nvGrpSpPr>
        <p:grpSpPr>
          <a:xfrm>
            <a:off x="8326440" y="3780000"/>
            <a:ext cx="3054240" cy="785520"/>
            <a:chOff x="8326440" y="3780000"/>
            <a:chExt cx="3054240" cy="785520"/>
          </a:xfrm>
        </p:grpSpPr>
        <p:pic>
          <p:nvPicPr>
            <p:cNvPr id="176" name="Прямоугольник 46" descr=""/>
            <p:cNvPicPr/>
            <p:nvPr/>
          </p:nvPicPr>
          <p:blipFill>
            <a:blip r:embed="rId6"/>
            <a:stretch/>
          </p:blipFill>
          <p:spPr>
            <a:xfrm>
              <a:off x="8326440" y="3780000"/>
              <a:ext cx="305424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445600" y="3932280"/>
              <a:ext cx="27381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6092"/>
                  </a:solidFill>
                  <a:latin typeface="Arial"/>
                  <a:ea typeface="Arial"/>
                </a:rPr>
                <a:t>Падение, обрушение предмет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33"/>
          <p:cNvSpPr/>
          <p:nvPr/>
        </p:nvSpPr>
        <p:spPr>
          <a:xfrm>
            <a:off x="1917720" y="10177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Количества несчастных случаев с тяжелыми последствиями в 2024 году в зависимости от прич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хема 2" descr=""/>
          <p:cNvPicPr/>
          <p:nvPr/>
        </p:nvPicPr>
        <p:blipFill>
          <a:blip r:embed="rId1"/>
          <a:stretch/>
        </p:blipFill>
        <p:spPr>
          <a:xfrm>
            <a:off x="774720" y="1987560"/>
            <a:ext cx="9837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ая соединительная линия 1"/>
          <p:cNvSpPr/>
          <p:nvPr/>
        </p:nvSpPr>
        <p:spPr>
          <a:xfrm flipH="1">
            <a:off x="1029960" y="874800"/>
            <a:ext cx="9955080" cy="0"/>
          </a:xfrm>
          <a:prstGeom prst="line">
            <a:avLst/>
          </a:prstGeom>
          <a:ln w="38160">
            <a:solidFill>
              <a:srgbClr val="586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1206360" y="270000"/>
            <a:ext cx="92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роизводственный травматизм в Забайкальском кра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33"/>
          <p:cNvSpPr/>
          <p:nvPr/>
        </p:nvSpPr>
        <p:spPr>
          <a:xfrm>
            <a:off x="1917720" y="10177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90ff"/>
                </a:solidFill>
                <a:latin typeface="Arial Nova"/>
                <a:ea typeface="Times New Roman"/>
              </a:rPr>
              <a:t>Предприятия в Забайкальском крае, допустившие несчастные случаи в 2023 и 2024 год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Схема 3" descr=""/>
          <p:cNvPicPr/>
          <p:nvPr/>
        </p:nvPicPr>
        <p:blipFill>
          <a:blip r:embed="rId1"/>
          <a:stretch/>
        </p:blipFill>
        <p:spPr>
          <a:xfrm>
            <a:off x="311040" y="2462040"/>
            <a:ext cx="11503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17T11:33:19Z</dcterms:created>
  <dc:creator>Виктория Жунева</dc:creator>
  <dc:description/>
  <dc:language>en-US</dc:language>
  <cp:lastModifiedBy>Zhuneva_VV</cp:lastModifiedBy>
  <dcterms:modified xsi:type="dcterms:W3CDTF">2025-03-18T03:22:27Z</dcterms:modified>
  <cp:revision>17</cp:revision>
  <dc:subject/>
  <dc:title>Презентация PowerPoint</dc:title>
</cp:coreProperties>
</file>