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733-765A-4A86-8E74-DAD662F2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83E-C892-4C18-BE03-D598575A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948-E59C-40A6-9EF8-D48D82FA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0A5-CC5A-4324-AA74-5DABA540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2E7-0F3E-482A-B7B3-47137AF4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C09-F5E2-416F-A17E-081752A7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59C-0296-4E24-9EFF-DAF2F41E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826-6FBC-4BFF-A384-99F8C0E4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A56-277B-43E9-ACA5-3216D504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856F-B4C2-4FDB-A73C-25E205BB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036-11FF-4BA9-A77A-AF2332AC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1B4-13AC-41F4-A742-AD83DEE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7fb"/>
            </a:gs>
            <a:gs pos="100000">
              <a:srgbClr val="c8d1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6A0A-B82D-435F-A714-1F48F5194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4520" y="1380960"/>
            <a:ext cx="9067680" cy="355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СОВЕРШЕНСТВОВАНИЕ СИСТЕМЫ НЕЗАВИСИМОЙ ОЦЕНКИ КАЧЕСТВА РАБОТЫ ОРГАНИЗАЦИЙ В СФЕРЕ ФИЗИЧЕСКОЙ КУЛЬТУРЫ И СПОРТ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920" y="52020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манов Владимир Виктор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844640" cy="13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2" descr="Логотип-ФЦПСР-только-звезда"/>
          <p:cNvPicPr/>
          <p:nvPr/>
        </p:nvPicPr>
        <p:blipFill>
          <a:blip r:embed="rId2"/>
          <a:stretch/>
        </p:blipFill>
        <p:spPr>
          <a:xfrm>
            <a:off x="10469520" y="0"/>
            <a:ext cx="13064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2" descr="Логотип-ФЦПСР-только-звезда"/>
          <p:cNvPicPr/>
          <p:nvPr/>
        </p:nvPicPr>
        <p:blipFill>
          <a:blip r:embed="rId1"/>
          <a:stretch/>
        </p:blipFill>
        <p:spPr>
          <a:xfrm>
            <a:off x="11166480" y="0"/>
            <a:ext cx="900000" cy="998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133344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1200240" y="1827360"/>
          <a:ext cx="9816840" cy="4297320"/>
        </p:xfrm>
        <a:graphic>
          <a:graphicData uri="http://schemas.openxmlformats.org/drawingml/2006/table">
            <a:tbl>
              <a:tblPr/>
              <a:tblGrid>
                <a:gridCol w="4908600"/>
                <a:gridCol w="4908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заседаний Общественного совета  по 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кварта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уализация показателей, характеризующих общие критерии Н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мере необходи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 и проведение НОК организациями, подведомственными Минспорту Росс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год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мотрение итогов НОК и выработка решений по улучшению качества работы организаций, подведомственных Минспорту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год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плана мероприятий по улучшению качества работы организаций, подведомственных Минспорту Ро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год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</a:tr>
            </a:tbl>
          </a:graphicData>
        </a:graphic>
      </p:graphicFrame>
      <p:sp>
        <p:nvSpPr>
          <p:cNvPr id="88" name="Прямоугольник 5"/>
          <p:cNvSpPr/>
          <p:nvPr/>
        </p:nvSpPr>
        <p:spPr>
          <a:xfrm>
            <a:off x="3641760" y="1147680"/>
            <a:ext cx="58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роприятия федеральн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51040" y="68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Направления деятель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12" descr="Логотип-ФЦПСР-только-звезда"/>
          <p:cNvPicPr/>
          <p:nvPr/>
        </p:nvPicPr>
        <p:blipFill>
          <a:blip r:embed="rId1"/>
          <a:stretch/>
        </p:blipFill>
        <p:spPr>
          <a:xfrm>
            <a:off x="11166480" y="0"/>
            <a:ext cx="900000" cy="998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1333440" cy="1000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1040" y="68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Направления деятель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641760" y="1147680"/>
            <a:ext cx="58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роприятия региональн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00240" y="1827360"/>
          <a:ext cx="9361440" cy="4206600"/>
        </p:xfrm>
        <a:graphic>
          <a:graphicData uri="http://schemas.openxmlformats.org/drawingml/2006/table">
            <a:tbl>
              <a:tblPr/>
              <a:tblGrid>
                <a:gridCol w="6651360"/>
                <a:gridCol w="27100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видеоселекторных совещаний по вопросам проведения НОК в субъектах Российской Федерации с участием руководителей учреждений субъектов и региональных ИОГ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кварта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иторинг размещения информации о НОК на официальных сайтах органов физической культуры и спорта субъектов Российской Федерации, а также обеспечения технической возможности для выражения гражданами мнений о качестве услу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кварта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иторинг организации и проведения НОК в субъектах Российской Федер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кварта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едение итогов по достижению целевых показателей деятельности субъектов Российской Федерации по охвату независимой оценкой качества работы организаций на 2016-2018 год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жекварта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28880" y="24732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11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Текущее состояние вопрос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Picture 112" descr="Логотип-ФЦПСР-только-звезда"/>
          <p:cNvPicPr/>
          <p:nvPr/>
        </p:nvPicPr>
        <p:blipFill>
          <a:blip r:embed="rId1"/>
          <a:stretch/>
        </p:blipFill>
        <p:spPr>
          <a:xfrm>
            <a:off x="11166480" y="0"/>
            <a:ext cx="900000" cy="99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1333440" cy="10000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6"/>
          <p:cNvSpPr/>
          <p:nvPr/>
        </p:nvSpPr>
        <p:spPr>
          <a:xfrm>
            <a:off x="404640" y="1050840"/>
            <a:ext cx="1178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йдены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лючевые этапы формирования системы независимой оценки качества (НОК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220680" y="1768320"/>
            <a:ext cx="1185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сентября 2015 год по итогам заседания Общественным советом при Минспорте России утвержден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для проведения НОК, методика проведения НО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отчета (экспертного заключения) о проведении НО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бразовательных организаций, подведомственных Минспорту России, для проведения Н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8"/>
          <p:cNvSpPr/>
          <p:nvPr/>
        </p:nvSpPr>
        <p:spPr>
          <a:xfrm>
            <a:off x="108000" y="3743280"/>
            <a:ext cx="11858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ом Минспорта России от 18 марта 2016 г. № 270 ответственным за проведение НОК назначен заместитель Минспорта России Ю. Д. Нагор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163440" y="4487760"/>
            <a:ext cx="1228248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1 марта 2016 были утвержден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омственный план работ Минспорта России по НОК оказания услуг образовательными организациями в сфере физической культуры и спорта на период 2016-2018 годов и целевые показатели его реализаци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ядок рассмотрения результатов НОК оказания услуг образовательными организациями в сфере физической культуры и 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2" descr="Логотип-ФЦПСР-только-звезда"/>
          <p:cNvPicPr/>
          <p:nvPr/>
        </p:nvPicPr>
        <p:blipFill>
          <a:blip r:embed="rId1"/>
          <a:stretch/>
        </p:blipFill>
        <p:spPr>
          <a:xfrm>
            <a:off x="11166480" y="0"/>
            <a:ext cx="900000" cy="998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Изображение 3" descr=""/>
          <p:cNvPicPr/>
          <p:nvPr/>
        </p:nvPicPr>
        <p:blipFill>
          <a:blip r:embed="rId3"/>
          <a:stretch/>
        </p:blipFill>
        <p:spPr>
          <a:xfrm>
            <a:off x="2166840" y="1405080"/>
            <a:ext cx="7759800" cy="5356080"/>
          </a:xfrm>
          <a:prstGeom prst="rect">
            <a:avLst/>
          </a:prstGeom>
          <a:ln w="0">
            <a:noFill/>
          </a:ln>
        </p:spPr>
      </p:pic>
      <p:pic>
        <p:nvPicPr>
          <p:cNvPr id="55" name="Изображение 11" descr=""/>
          <p:cNvPicPr/>
          <p:nvPr/>
        </p:nvPicPr>
        <p:blipFill>
          <a:blip r:embed="rId4"/>
          <a:stretch/>
        </p:blipFill>
        <p:spPr>
          <a:xfrm>
            <a:off x="2179800" y="117360"/>
            <a:ext cx="774684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2" descr="Логотип-ФЦПСР-только-звезда"/>
          <p:cNvPicPr/>
          <p:nvPr/>
        </p:nvPicPr>
        <p:blipFill>
          <a:blip r:embed="rId1"/>
          <a:stretch/>
        </p:blipFill>
        <p:spPr>
          <a:xfrm>
            <a:off x="11166480" y="0"/>
            <a:ext cx="900000" cy="9986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"/>
          <p:cNvPicPr/>
          <p:nvPr/>
        </p:nvPicPr>
        <p:blipFill>
          <a:blip r:embed="rId2"/>
          <a:stretch/>
        </p:blipFill>
        <p:spPr>
          <a:xfrm>
            <a:off x="0" y="0"/>
            <a:ext cx="133344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"/>
          <p:cNvPicPr/>
          <p:nvPr/>
        </p:nvPicPr>
        <p:blipFill>
          <a:blip r:embed="rId3"/>
          <a:srcRect l="32207" t="17440" r="32079" b="58733"/>
          <a:stretch/>
        </p:blipFill>
        <p:spPr>
          <a:xfrm>
            <a:off x="838080" y="2317680"/>
            <a:ext cx="5257800" cy="21319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"/>
          <p:cNvPicPr/>
          <p:nvPr/>
        </p:nvPicPr>
        <p:blipFill>
          <a:blip r:embed="rId4"/>
          <a:srcRect l="38377" t="15995" r="38320" b="65120"/>
          <a:stretch/>
        </p:blipFill>
        <p:spPr>
          <a:xfrm>
            <a:off x="6432480" y="2233440"/>
            <a:ext cx="4921200" cy="2216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8"/>
          <p:cNvSpPr/>
          <p:nvPr/>
        </p:nvSpPr>
        <p:spPr>
          <a:xfrm>
            <a:off x="1015920" y="1139760"/>
            <a:ext cx="10528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ой блокируется размещение результатов НОК по образовательным организациям в сфере спорта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800280" y="4805280"/>
            <a:ext cx="1095984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ый мониторинг в регионах свидетельствует о том, что данная проблема прослеживается во всех регионах, представивших информаци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остояние вопроса в субъектах Р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rcRect l="2493" t="8671" r="3251" b="35699"/>
          <a:stretch/>
        </p:blipFill>
        <p:spPr>
          <a:xfrm>
            <a:off x="1219320" y="2184480"/>
            <a:ext cx="10274040" cy="34099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820800" y="998640"/>
            <a:ext cx="10858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возникла необходимость предусмотреть на сайте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bus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gov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разделе «Независимая оценка качества» дополнительную (пятую) сферу деятельности «Физическая культура и спорт» с функционалом, аналогичным функционалу сферы «Образование»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2" descr="Логотип-ФЦПСР-только-звезда"/>
          <p:cNvPicPr/>
          <p:nvPr/>
        </p:nvPicPr>
        <p:blipFill>
          <a:blip r:embed="rId2"/>
          <a:stretch/>
        </p:blipFill>
        <p:spPr>
          <a:xfrm>
            <a:off x="11166480" y="0"/>
            <a:ext cx="900000" cy="998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333440" cy="1000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остояние вопроса в субъектах Р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остояние вопроса в субъектах Р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2" descr="Логотип-ФЦПСР-только-звезда"/>
          <p:cNvPicPr/>
          <p:nvPr/>
        </p:nvPicPr>
        <p:blipFill>
          <a:blip r:embed="rId1"/>
          <a:stretch/>
        </p:blipFill>
        <p:spPr>
          <a:xfrm>
            <a:off x="11166480" y="0"/>
            <a:ext cx="900000" cy="9986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"/>
          <p:cNvPicPr/>
          <p:nvPr/>
        </p:nvPicPr>
        <p:blipFill>
          <a:blip r:embed="rId2"/>
          <a:stretch/>
        </p:blipFill>
        <p:spPr>
          <a:xfrm>
            <a:off x="0" y="0"/>
            <a:ext cx="1333440" cy="10000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9"/>
          <p:cNvSpPr/>
          <p:nvPr/>
        </p:nvSpPr>
        <p:spPr>
          <a:xfrm>
            <a:off x="1262160" y="1325520"/>
            <a:ext cx="96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иторинг результатов НОК в отрасли физической культуры и спо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1148760" y="2324160"/>
            <a:ext cx="9743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но 85 субъектов,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3 региона имеют специализированный раздел на сай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регионов разместили результаты НОК на своих официальных сайт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8 регионов разместили информацию об Общественном сове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регионов разместили информацию по оператор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но средний критерий оценки качества 60 баллов (макс. 100 бал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Независимая оценка качества оказания услуг организациями, подведомственными Минспорту Росси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Picture 112" descr="Логотип-ФЦПСР-только-звезда"/>
          <p:cNvPicPr/>
          <p:nvPr/>
        </p:nvPicPr>
        <p:blipFill>
          <a:blip r:embed="rId1"/>
          <a:stretch/>
        </p:blipFill>
        <p:spPr>
          <a:xfrm>
            <a:off x="11166480" y="0"/>
            <a:ext cx="900000" cy="998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1333440" cy="1000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216000" y="2055960"/>
            <a:ext cx="1176012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ственный совет при Минобрнауки Росс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ет перечень организаций, осуществляющих образовательную деятельность, в отношении которых проводится независимая оц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ственный совет при Минобрнауки Росс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включи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ые организации, подведомственные Минспорту России для проведения НОК оказываемых услуг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нспорт России не имеет полномочи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асходование денежных средств для выбора и заключения с организацией-оператором государственного кон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зависимая оцен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организациям, подведомственным Минспорту России (14 ВУЗов и 10УОРов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 может быть провед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7"/>
          <p:cNvSpPr/>
          <p:nvPr/>
        </p:nvSpPr>
        <p:spPr>
          <a:xfrm>
            <a:off x="468360" y="2332080"/>
            <a:ext cx="1172376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ожения по внесению изменений в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"Об образовании в Российской Федерации"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4.12.07 №329-ФЗ «О физической культуре и спорте в Российской Федерации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целью закрепления полномочий по организации проведения НОК организаций, реализующих программы допобразования в сфере физической культуры и спорта, а также программы спортивной подготовки за Минспортом Ро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2" descr="Логотип-ФЦПСР-только-звезда"/>
          <p:cNvPicPr/>
          <p:nvPr/>
        </p:nvPicPr>
        <p:blipFill>
          <a:blip r:embed="rId1"/>
          <a:stretch/>
        </p:blipFill>
        <p:spPr>
          <a:xfrm>
            <a:off x="11166480" y="0"/>
            <a:ext cx="900000" cy="998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"/>
          <p:cNvPicPr/>
          <p:nvPr/>
        </p:nvPicPr>
        <p:blipFill>
          <a:blip r:embed="rId2"/>
          <a:stretch/>
        </p:blipFill>
        <p:spPr>
          <a:xfrm>
            <a:off x="0" y="0"/>
            <a:ext cx="1333440" cy="1000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Независимая оценка качества оказания услуг организациями, подведомственными Минспорту России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1040" y="68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Направления деятель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666720" y="1461960"/>
            <a:ext cx="11302920" cy="42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спорт России подготов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ект приказа об утвержден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омственного плана работ Минспорта России по независимой оценке качест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казания услуг образовательными организациями в сфере физической культуры и спорта на период 2016-2018 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ек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ядка рассмотрения результатов Н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азания услуг образовательными организациями в сфере физической культуры и спорта, включающий принятие решений дисциплинарного характера по его итог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ек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омственного плана работ Минспорта России по НОК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азания услуг образовательными организациями в сфере физической культуры и спорта на период 2016-2018 годы, включающий мероприятия, реализуемые на региональном уровне, а также мероприятия по формированию рейтинга организаций по результатам независимой 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2" descr="Логотип-ФЦПСР-только-звезда"/>
          <p:cNvPicPr/>
          <p:nvPr/>
        </p:nvPicPr>
        <p:blipFill>
          <a:blip r:embed="rId1"/>
          <a:stretch/>
        </p:blipFill>
        <p:spPr>
          <a:xfrm>
            <a:off x="11166480" y="0"/>
            <a:ext cx="900000" cy="998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3T09:46:36Z</dcterms:created>
  <dc:creator>Валентина Дударева</dc:creator>
  <dc:description/>
  <dc:language>en-US</dc:language>
  <cp:lastModifiedBy>User</cp:lastModifiedBy>
  <cp:lastPrinted>2016-05-16T07:55:06Z</cp:lastPrinted>
  <dcterms:modified xsi:type="dcterms:W3CDTF">2016-09-04T23:51:21Z</dcterms:modified>
  <cp:revision>22</cp:revision>
  <dc:subject/>
  <dc:title>Совершенствование системы независимой оценки качества работы организаций в сфере физической культуры и спорта</dc:title>
</cp:coreProperties>
</file>